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CC8-B374-4B36-A21C-9410689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B5F-C917-4CA4-896F-E321D58A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9C8-390F-43CA-8B45-D385B749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D7D-CB60-4CED-8D72-13E7E2D8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F71-060D-477B-874E-892FB0CD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7D1E-F40A-4AEA-AA01-441BD49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F03B-9BFF-460B-BA6D-6E4EC6D3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7255-704F-436D-8A07-3EB7255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7C3F-A0D9-4E79-9B41-6DB0073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BD59-C50C-433B-AEE4-755A0CB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DE0-58EF-4AD0-9212-5207424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65D-3093-49F0-9B36-F08470B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1C80-09A4-452E-A9FE-114E1BE7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D342-B45B-43C1-867D-62B2571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C55-19C4-48D9-8709-9C3D0544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58A3-AED4-484C-9E32-65F20962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5E9-92BE-4DF9-BC90-ECA3EEA2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C42-ECCB-4771-9D9A-40367E6B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5DF-F3B7-4634-AE3B-8D0CD1B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1F1-F451-45D8-8832-7C88B48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D98-5A0A-4C67-90E2-8D5EF56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E08-A9B4-484A-9624-A5C4EAC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A01-EE74-4F55-9D84-2671038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8D8-6599-4F15-9DC2-62212FB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24B-C585-4598-94FD-01CB090A7D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A1B-E69A-40E2-BA2F-BF38D1FBBE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Write Effective 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33526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W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AG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unter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“Students will demonstrate their ability to add whole numbers.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: “After several activities, SWBAT demonstrate their ability to add whole numbers by adding columns of figure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ong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“ Plan a pizza party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t of current conditions taken from a weather station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weather forecast covering the next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ou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ries of sentences written in past or present tense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wri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sentence in future tense with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mmatical erro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iewing a video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least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sh-pull factors relating to U.S. immigration in the late 1800’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sure- Part 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ood objective: What-How-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= Audience                 C=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= Behavior                  D= Deg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ng: “Describe what happens when two molds grow together.”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 precise, easy to 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sure: Part 2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hr (Penn State Websit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er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ritten objective tells you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nowledge, skill or attitu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des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instruction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 achievement is required.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you need clearly written objectives in daily lesson pla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ers say that schools would have to increase instructional time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1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cover existing benchmarks and standa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iv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 the m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these existing benchmarks that students need to learn by the end of the un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need to focus on 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rn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not 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ugh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the proper format of objective writing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ruction that focuses on a clearly written objective is the number one factor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a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tudent achie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CPS OBSERVATION AND EVALUATION FORM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1: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s objectives that reflect the curriculum content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s instruction to achieve objectives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BD MODEL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termine what you want students to learn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create an align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will measur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sig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chieve the stated daily learning obj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 of Daily Lesson Objective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UBD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d towards the “Big Idea”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“Enduring Understanding” foun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in the CCPS curriculum guide 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VSC indicator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RUS OF OBJECTIVE WRITING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deline Hun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the student will be able to do 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d of the lesson and why it is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rry Wo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nd 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ives do two things: Assign and Ass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ducation Oasis Grou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, How, and 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stem that describes activity, add a verb, and determine the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nte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Students will demonstrate their 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add whole number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ive: Explains what student will be able to d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y the end of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ng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Plan a pizza party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ive: Assign and Assess- Tells student what 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be taken and what is to be performed o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ster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ucation Oasis Gro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“After completing today’s activities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WBA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eate a stem w/ condit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ognize (Verb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eshadowing i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the Treaty of Versailles really d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 host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termine the outco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iat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ween the different categ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hich is the “why” or process/produc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ries of math steps to be used to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Format: ABCD</a:t>
            </a:r>
            <a:br>
              <a:rPr sz="36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Heinich, et.al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FOUR PARTS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Who are the learners (SWBA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havi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Bloom’s ver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How? What will the student be given to accomplish the learning (methods us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How will learning be measured/ Use a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27:59Z</dcterms:created>
  <dc:creator>Cheryl</dc:creator>
  <dc:description/>
  <dc:language>en-US</dc:language>
  <cp:lastModifiedBy>Robyn C Marsden</cp:lastModifiedBy>
  <dcterms:modified xsi:type="dcterms:W3CDTF">2011-04-19T16:28:42Z</dcterms:modified>
  <cp:revision>4</cp:revision>
  <dc:subject/>
  <dc:title>How to Write Effective Objectives</dc:title>
</cp:coreProperties>
</file>